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D77-A919-4751-ACDD-C9CA897E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0B0-F526-4CBF-B567-0A0938D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A99-16E4-4B50-B6D0-2756CBD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AED-DDA1-4368-ABCC-BB4310F0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A86-9AB0-4B57-908C-90FE92E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8CE-945C-4078-9486-E16C32F0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276-AA82-49E0-BC00-55BEBD8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2EC-A6A2-4AEF-B000-BD804F66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05A-5790-4F26-8B0B-9792238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335-E3EE-4028-806E-FDD86A7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D09-401A-4A70-BDD3-DD863A1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3A6-5CB5-45AA-8DC9-58FF5AB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73CA-2A38-4002-B1D9-368CA5DA43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KYE Storage Faciliti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Water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much water are we using per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shower- 3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bath- 8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ashing Machine- 10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ashing Dishes-2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rinking Water- about 2.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lushing Toilet- 1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The amount of water we are going to suppl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person uses about 212L of water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family of 2 adults and 2 children will use 212L*3(2 children use 212L)=63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636L-100L(washing machine)-240L(Bath)-40L(2 times of washing dishes)= 26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50 families will use 260L*50=13000L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3000L*14=182000L for two week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14840" cy="4210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ape- Cylin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Not fragil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cylinder’s TSA calculation metho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 πr^2 + 2πr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 πr(r+2h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359600" y="324648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SA of the 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457520" cy="3952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7280" y="1557360"/>
            <a:ext cx="4259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eight- 6.5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dius-3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olume- about 182m^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st of cylinder- $25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st of cement floor-$320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otal cost- $57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Food(=grain)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much food do we have to consume a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n adult- eats about 0.25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5:28:49Z</dcterms:created>
  <dc:creator>LGE</dc:creator>
  <dc:description/>
  <dc:language>en-US</dc:language>
  <cp:lastModifiedBy>LGE</cp:lastModifiedBy>
  <dcterms:modified xsi:type="dcterms:W3CDTF">2008-11-29T15:52:20Z</dcterms:modified>
  <cp:revision>4</cp:revision>
  <dc:subject/>
  <dc:title>SKYE Storage Facilities</dc:title>
</cp:coreProperties>
</file>